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F8D65-F2D0-49DE-B11C-20433EADFB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2BC1F-8602-4F7E-AC57-00CAFD1150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01DF6-4499-41B4-A15A-5C9998AF5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22702-5D8E-4CA6-9B2A-A5E7B415F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D40AD-8055-4712-8499-1A8BD3FE08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F5A74-4B88-4A1E-99D2-1736BAE25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BBB9B-CD62-4409-8E9B-F8F15052F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BEA31-403C-4139-BA3E-05F4B9759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7BCB1-F255-42EE-B80D-116884E073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732E4-76A8-40BE-B1D0-77D614302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2FAD2-C084-4A62-929C-384AADCD00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051BE-E623-491F-84AE-DAD84D57D5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73D44-FD36-4BD0-8A4D-8FBA9869C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8ADE1-E9BA-4EED-AB52-DC144DE8DA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DC17C-9D6B-413B-974A-9D69CF661E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F51B4-BBD9-4F46-81E5-93AAA3642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F6A09-CE28-4F58-B9BB-92E4CE2D96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A062A-FFE8-45B7-B61B-1677635DBB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332C8-0A3D-43D1-934D-3DA41B239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4D303-BDEF-419F-B797-CCE0F73158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4ED21-4A2C-4FAD-A69C-906636AB7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6B9B2-D38D-4F44-8D21-2BA04D74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C7532-7096-408C-93EF-3C0E6454ED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C8C39-DDA5-4B44-B148-2DDDED9B76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C1803-36A9-4AFF-BE9C-38270764B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5ECF7-B6E2-401B-83D0-AD053C117C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8ADA6-6434-42BF-B0A3-D09A70B80B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7D9D6-4E01-4853-A01B-7A5A1C2C9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AC80F-5106-441D-83E9-5D2F95633C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5750E-4B20-400A-BBE0-85E51E6F00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7D20A-7992-4C93-B01C-7CCDABE60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31089-9538-4B16-98DE-2264656D2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C4C0C-74D7-428C-88B2-0A00602C6F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09A67-6E5E-425B-A236-EA4AED391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8214F-BCC8-46E9-8020-97A761DEB0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DB3C6-834E-4A25-8070-E2E509630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BC026-AE74-4918-9E89-A3C0AC47D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B9D89-9E93-4330-87EB-51A5B6637E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F016E-5D7D-4C40-9F88-B134FD116C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C54FC-7F54-4B78-B4E9-460102403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5119E-24AC-4C92-B4DB-BB00503B2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FD9F1-A4A9-459C-B89F-50730C23B4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5B815-90B9-46B5-80DF-1D3BAF10D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63CAB-D5FF-48C8-AFC9-46D4AA257A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34122-B9E6-4D58-9311-4BB25686A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99452-A828-45BA-8AAB-0D82436B1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AF6E4-AC43-4B8D-8D60-C87A0AA22D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55BFB-2133-4252-B5A0-E84671385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664D7-78C7-4B1F-86E4-8DA8A9AB0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B114A-7DC3-4DFC-B4AE-6DD3BBDBD6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4C27E-16F7-4360-ADF4-9F42C1A5E6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4292A-CE1B-4CD1-A170-DF26CFC0F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8DF40-186B-43D7-8C3A-E56BFAED15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97D49-172A-4D57-AA76-883DED4101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2521C-FF3E-40B4-8EA8-280DF079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3F88E-B86E-4F89-9486-DCC31F122D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87E6F-5D1D-42C5-96A1-0544F0B62F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DEC95-4DF0-4B64-8035-EA3A1BCF1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FB94-7BFF-4DDE-8C96-46B9C3EC9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1734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342A-3BE2-4D29-9C6B-1F242E1FB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064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A1B6-72C2-44FF-AC1A-1D414DFBD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776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1D3C-94E0-49E8-8C3F-6A6652D3F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937C-C0C3-43B4-A718-7B5EA28CF7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F3C9-846D-4BB7-AF62-00131E131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A9A1-F8EB-47FB-B236-C704CCD009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7646-C94B-473D-95EE-918D1AFC66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77DA-EFB2-408A-9510-8B7AE45CD9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14400" y="366480"/>
            <a:ext cx="7385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8449-E891-43D8-B860-AAC9628B84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C5C4-6E83-4F43-9E41-89E632D58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749F-F05F-4B6C-85FC-59C0C0F42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064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F95E-BE92-4199-9D15-40A09C58A0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4265-4DDA-4C00-A106-D78EE71D77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1734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7A12-3341-487C-8FB0-405DDCC4DD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064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1C80-DAFE-4299-8683-644A21BAB5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748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748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776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F995-57DF-437B-8512-CBE1BDD8C0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0CF2-D534-4221-B988-3CA9083B7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0564-3D43-4F3E-9C9D-BC5A214AC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E8B7-4E83-445D-B6AF-47226143D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14400" y="366480"/>
            <a:ext cx="7385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6259-63A3-40D4-BFB1-A231ED527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CBAB-D93A-40B9-8FBD-3E31121EC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064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E2D0-7F8B-4CEE-84AF-BDAF84F56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EC52-37D2-4EF1-9C55-2BF00B9C9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AutoShape 2"/>
          <p:cNvSpPr/>
          <p:nvPr/>
        </p:nvSpPr>
        <p:spPr>
          <a:xfrm>
            <a:off x="-11160" y="281160"/>
            <a:ext cx="9155160" cy="162072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3"/>
          <p:cNvSpPr/>
          <p:nvPr/>
        </p:nvSpPr>
        <p:spPr>
          <a:xfrm>
            <a:off x="-20520" y="533520"/>
            <a:ext cx="9161280" cy="100620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4"/>
          <p:cNvGrpSpPr/>
          <p:nvPr/>
        </p:nvGrpSpPr>
        <p:grpSpPr>
          <a:xfrm>
            <a:off x="7740720" y="347760"/>
            <a:ext cx="380880" cy="360360"/>
            <a:chOff x="7740720" y="347760"/>
            <a:chExt cx="380880" cy="360360"/>
          </a:xfrm>
        </p:grpSpPr>
        <p:sp>
          <p:nvSpPr>
            <p:cNvPr id="5" name="Oval 5"/>
            <p:cNvSpPr/>
            <p:nvPr/>
          </p:nvSpPr>
          <p:spPr>
            <a:xfrm>
              <a:off x="7740720" y="347760"/>
              <a:ext cx="380880" cy="36036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6"/>
            <p:cNvSpPr/>
            <p:nvPr/>
          </p:nvSpPr>
          <p:spPr>
            <a:xfrm>
              <a:off x="7740720" y="347760"/>
              <a:ext cx="252360" cy="237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Group 7"/>
          <p:cNvGrpSpPr/>
          <p:nvPr/>
        </p:nvGrpSpPr>
        <p:grpSpPr>
          <a:xfrm>
            <a:off x="8153280" y="54000"/>
            <a:ext cx="603360" cy="585720"/>
            <a:chOff x="8153280" y="54000"/>
            <a:chExt cx="603360" cy="585720"/>
          </a:xfrm>
        </p:grpSpPr>
        <p:sp>
          <p:nvSpPr>
            <p:cNvPr id="8" name="Oval 8"/>
            <p:cNvSpPr/>
            <p:nvPr/>
          </p:nvSpPr>
          <p:spPr>
            <a:xfrm>
              <a:off x="8153280" y="54000"/>
              <a:ext cx="603360" cy="58572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9"/>
            <p:cNvSpPr/>
            <p:nvPr/>
          </p:nvSpPr>
          <p:spPr>
            <a:xfrm>
              <a:off x="8153280" y="152280"/>
              <a:ext cx="501840" cy="389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Group 10"/>
          <p:cNvGrpSpPr/>
          <p:nvPr/>
        </p:nvGrpSpPr>
        <p:grpSpPr>
          <a:xfrm>
            <a:off x="171360" y="819000"/>
            <a:ext cx="714600" cy="755640"/>
            <a:chOff x="171360" y="819000"/>
            <a:chExt cx="714600" cy="755640"/>
          </a:xfrm>
        </p:grpSpPr>
        <p:sp>
          <p:nvSpPr>
            <p:cNvPr id="11" name="Oval 11"/>
            <p:cNvSpPr/>
            <p:nvPr/>
          </p:nvSpPr>
          <p:spPr>
            <a:xfrm>
              <a:off x="171360" y="819000"/>
              <a:ext cx="714600" cy="7556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>
              <a:off x="171360" y="946080"/>
              <a:ext cx="593640" cy="501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4"/>
          <p:cNvSpPr/>
          <p:nvPr/>
        </p:nvSpPr>
        <p:spPr>
          <a:xfrm>
            <a:off x="457200" y="640080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ext Box 15"/>
          <p:cNvSpPr/>
          <p:nvPr/>
        </p:nvSpPr>
        <p:spPr>
          <a:xfrm>
            <a:off x="3124080" y="6400800"/>
            <a:ext cx="28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EABA0-4A0C-4FC6-8CF5-9431F67728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1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2"/>
          <p:cNvSpPr/>
          <p:nvPr/>
        </p:nvSpPr>
        <p:spPr>
          <a:xfrm>
            <a:off x="-11160" y="281160"/>
            <a:ext cx="9155160" cy="162072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-20520" y="533520"/>
            <a:ext cx="9161280" cy="100620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7740720" y="347760"/>
            <a:ext cx="380880" cy="360360"/>
            <a:chOff x="7740720" y="347760"/>
            <a:chExt cx="380880" cy="360360"/>
          </a:xfrm>
        </p:grpSpPr>
        <p:sp>
          <p:nvSpPr>
            <p:cNvPr id="59" name="Oval 5"/>
            <p:cNvSpPr/>
            <p:nvPr/>
          </p:nvSpPr>
          <p:spPr>
            <a:xfrm>
              <a:off x="7740720" y="347760"/>
              <a:ext cx="380880" cy="36036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7740720" y="347760"/>
              <a:ext cx="252360" cy="237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7"/>
          <p:cNvGrpSpPr/>
          <p:nvPr/>
        </p:nvGrpSpPr>
        <p:grpSpPr>
          <a:xfrm>
            <a:off x="8153280" y="54000"/>
            <a:ext cx="603360" cy="585720"/>
            <a:chOff x="8153280" y="54000"/>
            <a:chExt cx="603360" cy="585720"/>
          </a:xfrm>
        </p:grpSpPr>
        <p:sp>
          <p:nvSpPr>
            <p:cNvPr id="62" name="Oval 8"/>
            <p:cNvSpPr/>
            <p:nvPr/>
          </p:nvSpPr>
          <p:spPr>
            <a:xfrm>
              <a:off x="8153280" y="54000"/>
              <a:ext cx="603360" cy="58572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153280" y="152280"/>
              <a:ext cx="501840" cy="389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10"/>
          <p:cNvGrpSpPr/>
          <p:nvPr/>
        </p:nvGrpSpPr>
        <p:grpSpPr>
          <a:xfrm>
            <a:off x="171360" y="819000"/>
            <a:ext cx="714600" cy="755640"/>
            <a:chOff x="171360" y="819000"/>
            <a:chExt cx="714600" cy="755640"/>
          </a:xfrm>
        </p:grpSpPr>
        <p:sp>
          <p:nvSpPr>
            <p:cNvPr id="65" name="Oval 11"/>
            <p:cNvSpPr/>
            <p:nvPr/>
          </p:nvSpPr>
          <p:spPr>
            <a:xfrm>
              <a:off x="171360" y="819000"/>
              <a:ext cx="714600" cy="7556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171360" y="946080"/>
              <a:ext cx="593640" cy="501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457200" y="6477120"/>
            <a:ext cx="2131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3124080" y="6477120"/>
            <a:ext cx="2894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27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1469A2-21A1-4428-9DC0-1AF2CF182DB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profs.com/quiz-school/story.php?title=uk-geography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youtube.com/watch?v=POqIg0XlTAE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4105440" cy="3066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900000" y="1568520"/>
            <a:ext cx="7086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Geography of the United Kingd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42920" y="476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IS Giacomo Antoniet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4680"/>
            <a:ext cx="5770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Scot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04840" y="1114560"/>
            <a:ext cx="5195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 mountainous countr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apital is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Edinburg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jor Cities: Aberdeen, Dundee, Glasg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ighest point: 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Ben Nevis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1,343 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mous for its lochs (lakes), clans, kilts, medieval cast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326200" y="1773360"/>
            <a:ext cx="3740040" cy="45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979640" y="4813200"/>
            <a:ext cx="2338200" cy="2044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5003640" y="23760"/>
            <a:ext cx="1513080" cy="1565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6499080" y="80640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e Scottish This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-12600" y="36360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know what’s the monster’s na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50920" y="1177920"/>
            <a:ext cx="4857840" cy="499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255840" y="609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ch 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7559640" y="54000"/>
            <a:ext cx="151128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457200" y="274680"/>
            <a:ext cx="497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W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179280" y="1066680"/>
            <a:ext cx="4716720" cy="34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mountainous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pital City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Cardi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ghest point: 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nowd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085 met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gest rive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ow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Tywi) 103 k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argest Lake: 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260360" y="4500720"/>
            <a:ext cx="3024360" cy="2211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5081760" y="4091040"/>
            <a:ext cx="3433680" cy="257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3"/>
          <a:stretch/>
        </p:blipFill>
        <p:spPr>
          <a:xfrm>
            <a:off x="4680000" y="539640"/>
            <a:ext cx="4127400" cy="3903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4"/>
          <a:stretch/>
        </p:blipFill>
        <p:spPr>
          <a:xfrm>
            <a:off x="7740720" y="-90360"/>
            <a:ext cx="1458720" cy="13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044720" y="539640"/>
            <a:ext cx="8099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y to guess why the Welsh flag depicts a red drag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900000" y="1800360"/>
            <a:ext cx="7334280" cy="5035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63440" y="360360"/>
            <a:ext cx="1457280" cy="13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539640" y="228600"/>
            <a:ext cx="52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Northern Ire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4600440" y="1944720"/>
            <a:ext cx="43992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 the northeas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ern par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f the island of Ire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pital City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ghest point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lieve Donar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ountain 848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gest river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iver Ban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29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argest Lake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ough Neagh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93680" y="1773360"/>
            <a:ext cx="4249800" cy="4646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6227640" y="228600"/>
            <a:ext cx="1440000" cy="13780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7667640" y="595440"/>
            <a:ext cx="14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ne pound with the flax plant of 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y do you think this place is called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Giant´s Caus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5908680"/>
            <a:ext cx="8532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iant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ausewa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ult of an ancient volcanic eru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619280" y="1203480"/>
            <a:ext cx="6273720" cy="47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720720" y="6114960"/>
            <a:ext cx="828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d using Crossword Puzzle Maker http://www.puzzle-maker.com/CW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440000" y="539640"/>
            <a:ext cx="5770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Test your knowled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540072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908000" y="2205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rm 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11280" y="2349360"/>
            <a:ext cx="80010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Do you know any cities in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How many parts can the UK be divided into? What are th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Why does London play a significant role in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Why do people say England when they mean UK? Have you ever made the same mista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What are the geographic features of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tabLst>
                <a:tab algn="l" pos="0"/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tabLst>
                <a:tab algn="l" pos="0"/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tabLst>
                <a:tab algn="l" pos="0"/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70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270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270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68360" y="1878120"/>
            <a:ext cx="48006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fficial name of the UK is the </a:t>
            </a:r>
            <a:r>
              <a:rPr b="1" lang="en-US" sz="1800" spc="-1" strike="noStrike">
                <a:solidFill>
                  <a:srgbClr val="692aa2"/>
                </a:solidFill>
                <a:latin typeface="Arial"/>
              </a:rPr>
              <a:t>United Kingdom of Great Britain and Northern Irela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K is made up of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eat Britain (England, Scotland, and the principality of Wales. 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rthern Ireland (also known as Ulste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erous smaller is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268960" y="887400"/>
            <a:ext cx="3346560" cy="5472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rcRect l="39773" t="0" r="0" b="60118"/>
          <a:stretch/>
        </p:blipFill>
        <p:spPr>
          <a:xfrm>
            <a:off x="3902040" y="2462040"/>
            <a:ext cx="2036880" cy="1317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835280" y="426960"/>
            <a:ext cx="3313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72960" y="260280"/>
            <a:ext cx="47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8088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38080" y="228600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9280" y="1800360"/>
            <a:ext cx="41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ur seas which  border the UK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glish Channel - separates UK from continental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o the east  the North Se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o the west the Irish Se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d the Atlantic Ocea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995640" y="1619280"/>
            <a:ext cx="5004000" cy="41385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179280" y="5940360"/>
            <a:ext cx="8820360" cy="539640"/>
          </a:xfrm>
          <a:prstGeom prst="roundRect">
            <a:avLst>
              <a:gd name="adj" fmla="val 29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the English Channel there is the Channel Tunnel, which links the UK to Fr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533520" y="1515960"/>
            <a:ext cx="4495680" cy="52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ish Is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eographical term which inclu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 Brit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 of Ire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ll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shore isla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ik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le of 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has its own parliament and 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tish Isles is made up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l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capital is Lond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 capital is Edinburg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capital is Cardiff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 capital is Belfa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Ire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 capital is Dubli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bo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 thousand small isla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064120" y="914400"/>
            <a:ext cx="3352680" cy="5562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79280" y="441360"/>
            <a:ext cx="5616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itis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s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784080" y="479520"/>
            <a:ext cx="6983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land: morph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0" y="1785960"/>
            <a:ext cx="439272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largest country of the U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ly 35 km from Fr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h in hills and agricultural 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north is mostly covered in moorland and mountains (Dartmoor, Exmo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643280" y="1279440"/>
            <a:ext cx="403884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Capital City: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London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ajor Cities: Birmingham, Leeds, Liverpool, Manchester, Sheffiel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319640" y="2879640"/>
            <a:ext cx="4951440" cy="3830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208160" cy="11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79280" y="1646280"/>
            <a:ext cx="40388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ghest poi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cafell Pik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978 m (part of the Cumbrian Mountains in North West England = known as Lake Distri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gest river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ham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346 k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long coastline of 3,200 k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79280" y="9360"/>
            <a:ext cx="7813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England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 mountains and riv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329000" y="961920"/>
            <a:ext cx="4815000" cy="540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7977240" y="9360"/>
            <a:ext cx="97308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720720" y="5754600"/>
            <a:ext cx="828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proprofs.com/quiz-school/story.php?title=uk-ge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32160" y="2103480"/>
            <a:ext cx="2247840" cy="275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1440000" y="539640"/>
            <a:ext cx="5770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Test your knowled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don- Class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7740720" y="1079640"/>
            <a:ext cx="1344600" cy="11682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763640" y="6237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youtube.com/watch?v=POqIg0XlTA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619280" y="1427040"/>
            <a:ext cx="5400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ch the video and try to focus you attention on the places described, what are the things you would like to see in London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About_London_(8_8_ESL_video).mp4" descr=""/>
          <p:cNvPicPr/>
          <p:nvPr/>
        </p:nvPicPr>
        <p:blipFill>
          <a:blip r:embed="rId3"/>
          <a:stretch/>
        </p:blipFill>
        <p:spPr>
          <a:xfrm>
            <a:off x="1763640" y="2398680"/>
            <a:ext cx="476424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3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</dc:creator>
  <dc:description/>
  <dc:language>en-US</dc:language>
  <cp:lastModifiedBy>BOLDINI FEDERICA</cp:lastModifiedBy>
  <cp:lastPrinted>2013-05-09T14:40:01Z</cp:lastPrinted>
  <dcterms:modified xsi:type="dcterms:W3CDTF">2013-05-09T15:45:53Z</dcterms:modified>
  <cp:revision>102</cp:revision>
  <dc:subject/>
  <dc:title>PowerPoint Template</dc:title>
</cp:coreProperties>
</file>